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69FB-FE68-4E22-8B66-08566D88A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5EA0-BAFC-43CD-AA33-94F9F737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986A-7E79-424D-8322-8436782EA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EA4A-B502-4176-84F9-EC18CB891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6ADC-D4A7-424B-9AEB-C375229D5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F284-937D-417E-863A-A2889CE3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7D9B-D96B-4E30-A078-4B6F1062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A647-9868-4D1C-A479-D4594D71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BA7C-C4AC-4187-85F3-3C903BAA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9F5E-3912-4C96-A415-B0E16578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88AA-A5AB-46EA-944C-970830D8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C9B8-10D2-4320-A06F-25CB930A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FB9A-7B51-4F86-8D87-E7AF504F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6A28-E1FA-4B21-BC9E-15B27F77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39D7-83B2-4D2D-9746-637BA9F3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8C04-B8F4-4352-B036-94120FF16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16BA-1F5C-4DC1-B7A9-AD201DFB4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CC96-195E-493D-BC57-91852A88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AB0D-2CE2-4195-A943-6B173AE4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91F0-BAAD-4618-9C86-2BCFD40F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A77A-42F9-4A7A-9A27-897E4C81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FC2E-15DE-4042-B48E-BCDD399C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1CD4-D0A2-4ACE-8E42-EC2C884A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F740-918D-44B3-81D6-AA32B198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EB83-3646-498E-8740-F053469C661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1C97-C4EF-437C-9AED-D472D7C9A5D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podloga"/>
          <p:cNvPicPr/>
          <p:nvPr/>
        </p:nvPicPr>
        <p:blipFill>
          <a:blip r:embed="rId1"/>
          <a:stretch/>
        </p:blipFill>
        <p:spPr>
          <a:xfrm>
            <a:off x="611280" y="476280"/>
            <a:ext cx="7921440" cy="5931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1371600" y="4581360"/>
            <a:ext cx="64008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20000"/>
                </a:solidFill>
                <a:latin typeface="Tahoma"/>
              </a:rPr>
              <a:t>Доц. др Катарина Парезановић Или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9640" y="2636640"/>
            <a:ext cx="727236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20000"/>
                </a:solidFill>
                <a:latin typeface="Tahoma"/>
              </a:rPr>
              <a:t>НАИЗМЕНИ</a:t>
            </a:r>
            <a:r>
              <a:rPr b="1" lang="sr-Latn-CS" sz="4000" spc="-1" strike="noStrike">
                <a:solidFill>
                  <a:srgbClr val="720000"/>
                </a:solidFill>
                <a:latin typeface="Tahoma"/>
              </a:rPr>
              <a:t>Ч</a:t>
            </a:r>
            <a:r>
              <a:rPr b="1" lang="en-US" sz="4000" spc="-1" strike="noStrike">
                <a:solidFill>
                  <a:srgbClr val="720000"/>
                </a:solidFill>
                <a:latin typeface="Tahoma"/>
              </a:rPr>
              <a:t>НЕ СТРУЈ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6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Физиоло</a:t>
            </a:r>
            <a:r>
              <a:rPr b="0" lang="sr-Latn-CS" sz="4400" spc="-1" strike="noStrike">
                <a:solidFill>
                  <a:srgbClr val="ffffcc"/>
                </a:solidFill>
                <a:latin typeface="Tahoma"/>
              </a:rPr>
              <a:t>ш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и ефекат IFS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131640" y="1482840"/>
            <a:ext cx="576108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линичка и експериментална испитивања многих аутора (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,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Fiedle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1960) показала су да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IF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а постојаном фреквенцијом 90-100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z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мају аналгетички и симпатиколитички ефека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итмична учесталост од 0-100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z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зазива активну хиперемију и убрзава метаболичке процесе као и елиминацију токсичних продуката. Ва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з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дилататорни ефекат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IF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оказан је капилароскопијом, мерењем кожних температура, осцилографијом, хистохемијским и лабораторијским истраживањима.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Nikilova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1972) указује да се путем електромиографије може доказати стимулативно деловање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IF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 регенерацију повре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ђ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ених нерава и мишић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395280" y="2490840"/>
            <a:ext cx="2655720" cy="22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75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инусоидне модулисане струје (руска стимулација)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64000" y="2101320"/>
            <a:ext cx="3322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инусоидне модулисане струје у терапију је увео руски лекар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Jasnogordski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1969. године. Синусоидне струје имају фреквенцију од 5000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H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Терапијски ефекат се постиже кроз модулацију синусоидног облика са фреквенцијом од 10-150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H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539640" y="2184480"/>
            <a:ext cx="4681800" cy="26780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6"/>
          <p:cNvSpPr/>
          <p:nvPr/>
        </p:nvSpPr>
        <p:spPr>
          <a:xfrm>
            <a:off x="539640" y="508464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одулисање синусоидне струј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 - дубина модулације 100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 - дубина модулације 50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 - континуирани то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3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ТАТИ</a:t>
            </a:r>
            <a:r>
              <a:rPr b="0" lang="sr-Latn-CS" sz="4400" spc="-1" strike="noStrike">
                <a:solidFill>
                  <a:srgbClr val="ffffcc"/>
                </a:solidFill>
                <a:latin typeface="Tahoma"/>
              </a:rPr>
              <a:t>Ч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И ЕЛЕКТРИЦИТЕТ (франклинизација</a:t>
            </a:r>
            <a:r>
              <a:rPr b="0" lang="sr-Latn-CS" sz="4400" spc="-1" strike="noStrike">
                <a:solidFill>
                  <a:srgbClr val="ffffcc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34648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д појмом "франклинизација" подразумева се примена статичког електрицитета високог напона (до 50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у терапијске сврхе. Изме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ђ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 две електроде јавља се струја мале јачине, до 0,5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, а наелектрисање јона одговара активној електроди. Обично се користе ефекти негативних активних јо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сновни ефекат је васодилатација којој претходи краткотрајна васоконстрикција. Вазодилатација условљава локално повишење температуре, а то условљава убрзани метаболиза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пликација може бити општа и локал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Високофреквентне струје (VFS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000" y="4149720"/>
            <a:ext cx="82868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исокофреквентне струје су струје са фреквенцијом преко 100.000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se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Никола Тесла је 1891. године први описао топлотни ефекат под дејством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V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струја. Следеће 1892.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Arsonva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је испитивао ефекте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VF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трује на човечији организам и утврдио да струја изнад 10.000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z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 изазива дражење нерава и мишића.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Negelschmid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(1908) примену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VF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а назива "диатермиа"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2" name="Object 19"/>
          <p:cNvGraphicFramePr/>
          <p:nvPr/>
        </p:nvGraphicFramePr>
        <p:xfrm>
          <a:off x="2124000" y="1557360"/>
          <a:ext cx="4751640" cy="23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557360"/>
                    <a:ext cx="475164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Експериментални докази физи</a:t>
            </a:r>
            <a:r>
              <a:rPr b="0" lang="sr-Latn-CS" sz="3200" spc="-1" strike="noStrike">
                <a:solidFill>
                  <a:srgbClr val="ffffcc"/>
                </a:solidFill>
                <a:latin typeface="Tahoma"/>
              </a:rPr>
              <a:t>ч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ког (терми</a:t>
            </a:r>
            <a:r>
              <a:rPr b="0" lang="sr-Latn-CS" sz="3200" spc="-1" strike="noStrike">
                <a:solidFill>
                  <a:srgbClr val="ffffcc"/>
                </a:solidFill>
                <a:latin typeface="Tahoma"/>
              </a:rPr>
              <a:t>ч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ког) деловања ВФС-а</a:t>
            </a:r>
            <a:r>
              <a:rPr b="0" lang="sr-Latn-CS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на организам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Експеримент </a:t>
            </a:r>
            <a:r>
              <a:rPr b="0" lang="sr-Latn-CS" sz="2400" spc="-1" strike="noStrike">
                <a:solidFill>
                  <a:srgbClr val="ffcc66"/>
                </a:solidFill>
                <a:latin typeface="Tahoma"/>
              </a:rPr>
              <a:t>McLennan</a:t>
            </a: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-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рв у епрувети постављена у поље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VF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кратких таласа) брже се загрева него епрувета са серумом. Овај експеримент показује да се једна средина брже загрева ако има више честица (веће је трење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Експеримент </a:t>
            </a:r>
            <a:r>
              <a:rPr b="0" lang="sr-Latn-CS" sz="2400" spc="-1" strike="noStrike">
                <a:solidFill>
                  <a:srgbClr val="ffcc66"/>
                </a:solidFill>
                <a:latin typeface="Tahoma"/>
              </a:rPr>
              <a:t>Essay</a:t>
            </a: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-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 раствор парафина сипа се мало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Na2CO3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и добија емулзија која кључа у пољу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VF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а на нижој температури него на којој кључа вода. Разлози су као и у горњем пример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Експеримент </a:t>
            </a:r>
            <a:r>
              <a:rPr b="0" lang="sr-Latn-CS" sz="2400" spc="-1" strike="noStrike">
                <a:solidFill>
                  <a:srgbClr val="ffcc66"/>
                </a:solidFill>
                <a:latin typeface="Tahoma"/>
              </a:rPr>
              <a:t>Kowarschik</a:t>
            </a: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-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створ албумина (беланце) се коагулише у пољу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VF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а на 55-57о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а у воденом купатилу на 62-64о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Експериментални докази физи</a:t>
            </a:r>
            <a:r>
              <a:rPr b="0" lang="sr-Latn-CS" sz="3200" spc="-1" strike="noStrike">
                <a:solidFill>
                  <a:srgbClr val="ffffcc"/>
                </a:solidFill>
                <a:latin typeface="Tahoma"/>
              </a:rPr>
              <a:t>ч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ког (терми</a:t>
            </a:r>
            <a:r>
              <a:rPr b="0" lang="sr-Latn-CS" sz="3200" spc="-1" strike="noStrike">
                <a:solidFill>
                  <a:srgbClr val="ffffcc"/>
                </a:solidFill>
                <a:latin typeface="Tahoma"/>
              </a:rPr>
              <a:t>ч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ког) деловања </a:t>
            </a:r>
            <a:r>
              <a:rPr b="0" lang="sr-Latn-CS" sz="3200" spc="-1" strike="noStrike">
                <a:solidFill>
                  <a:srgbClr val="ffffcc"/>
                </a:solidFill>
                <a:latin typeface="Tahoma"/>
              </a:rPr>
              <a:t>VFS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-а</a:t>
            </a:r>
            <a:r>
              <a:rPr b="0" lang="sr-Latn-CS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на организам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856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Експеримент </a:t>
            </a:r>
            <a:r>
              <a:rPr b="0" lang="sr-Latn-CS" sz="2800" spc="-1" strike="noStrike">
                <a:solidFill>
                  <a:srgbClr val="ffcc66"/>
                </a:solidFill>
                <a:latin typeface="Tahoma"/>
              </a:rPr>
              <a:t>Schliephake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-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екна хлеба се пресече на три дела и изме|у њих се ставе изолаторске плоче. Тада се на крајевима векне укључи дуготаласна дијатермија и после извесног времена се може констатовати, ако меримо температуру у исеченим деловима, да унутрашњидео векне има 5о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а спољашњи делови 60о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Ако сада исту векну са постављеним изолаторским плочама укључимо у коло краткоталасне дијатермије, онда након извесног времена (10-15 минута) измеримо температуру она ће у свим деловима бити иста: 20о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во указује да дуготаласна дијатермија има особину кондуктивне проводне струје, а крактоталасна дијатермија која има већи број електромаг-нетских осцилација, има по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Maxwell-u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собину струја померања, односно капацитативних струј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одела </a:t>
            </a:r>
            <a:r>
              <a:rPr b="0" lang="sr-Latn-CS" sz="4400" spc="-1" strike="noStrike">
                <a:solidFill>
                  <a:srgbClr val="ffffcc"/>
                </a:solidFill>
                <a:latin typeface="Tahoma"/>
              </a:rPr>
              <a:t>VF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34920" y="1341360"/>
            <a:ext cx="5761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4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D'Arsonvalizacija </a:t>
            </a:r>
            <a:br>
              <a:rPr sz="2200"/>
            </a:b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(фрекв</a:t>
            </a: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нција 100.000 Hz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b) Дуготал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снa диј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ате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рм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ија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 (фреквeнција </a:t>
            </a:r>
            <a:br>
              <a:rPr sz="2200"/>
            </a:b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500.000 - 1.000.000 Hz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c) крат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кота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л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а 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диј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атер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м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ија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 (KTD) фреквeнција </a:t>
            </a:r>
            <a:br>
              <a:rPr sz="2200"/>
            </a:b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10-100 MHz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d) ултрак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раткоталасна дијатермија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200"/>
            </a:b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(фреквeнција 434,78 MHz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e) микротал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снa д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ијатермија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200"/>
            </a:b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ф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реквeнција 2.450 MHz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раткоталасна дијатермија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3280" y="1628280"/>
            <a:ext cx="4176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Електромедицински апарати за краткоталасну дијатермију (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KT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) су одашиљачи подручја кратких таласа. Како могу правити сметње у преносу сигнала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PT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саобраћаја, радиоталаса и сл., 1947. године усвојена је ме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ђ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народна конвенција о таласној дужини електромедицнских апарата. Према тој класификацији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KTD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ма таласне дужине од 22,12 метара и 11,06 метара а фреквенцију 13,56 М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односно 27,12 М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403560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раткоталасна дијатермиј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538200" y="1600200"/>
            <a:ext cx="4033800" cy="4495680"/>
          </a:xfrm>
          <a:prstGeom prst="rect">
            <a:avLst/>
          </a:prstGeom>
          <a:ln w="9360">
            <a:solidFill>
              <a:srgbClr val="be7960"/>
            </a:solidFill>
            <a:miter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озирањ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атермичк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нема никаквог осећаја топлот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олиготермичк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једва уочљив осећај топлот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термичка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пријатан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сећај топлот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хипертермичка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јак осећај топлоте, али још увек није непријата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Ултракраткоталасна дијатермија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лтракратки таласи настају у генератору са магнетроном. Учесталост се креће од 100-500 М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У терапијским апаратима фреквенција је 433,92 М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а таласна дужина 69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именом овог облика постигнут је повољнији ефекат загревања масног и мишићног ткива који износи 4:1, а код К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T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зрака однос је 9:1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Електрода је у виду рефлектора који може имати различито поље зрачења. Дозирање се врши у (W) а максимална доза је 200 W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755280" y="4005000"/>
            <a:ext cx="79297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Топлотни ефекат је резултат конверзије електромагнетских таласа у топлоту. Дејство се огледа, углавном, на крвним судовима капиларног реда који се проширују 3-10 пута. Проширење се након зрачења одржава и неколико дана а условљено је не смо топлотним него и симпатиколитичним ефектом услед депресивног деловања ултракратких таласа на симпатикус. Базални метаболизам се повећава (</a:t>
            </a:r>
            <a:r>
              <a:rPr b="0" lang="sr-Latn-CS" sz="2000" spc="-1" strike="noStrike">
                <a:solidFill>
                  <a:srgbClr val="ffcc66"/>
                </a:solidFill>
                <a:latin typeface="Tahoma"/>
              </a:rPr>
              <a:t>Nasset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) као и побољшање имунолошких снага организма (Петровић, 1972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АИЗМЕНИ</a:t>
            </a:r>
            <a:r>
              <a:rPr b="0" lang="sr-Latn-CS" sz="4400" spc="-1" strike="noStrike">
                <a:solidFill>
                  <a:srgbClr val="ffffcc"/>
                </a:solidFill>
                <a:latin typeface="Tahoma"/>
              </a:rPr>
              <a:t>Ч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Е СТРУЈ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31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измени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 струје карaктери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 промена правца кретањa јона и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тензите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т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Микроталасна дијатермиј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640" y="1980720"/>
            <a:ext cx="8136000" cy="20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д микроталасима се подразумевају електромагнетске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адијације високе фреквенције и мале таласнедужине. Фреквенција се креће од 2.000-18.000 М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а таласне дужине 15,0-1,67 cm. У терапијским апаратима се користи фреквенција 2.450 М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и таласна дужина од 12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cm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9280" y="4005360"/>
            <a:ext cx="814716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Основно и примарно физичко деловање на организам је стварање ендогене топлоте у озраченом делу тела. Продорност ових зрака је око 5 цм. Из тих разлога се дубље положена ткива не могу третирати овим физичким агенсом. Ниски топлотни коефицијент абсорпције у масном ткиву представља значајан моменат, јер се загревање масног ткива у корелацији са загревањем мишићног ткива доводи у однос 1: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Индикације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Трауматологија (не користи се код свежих повреда): повреде меких ткива, стања после прелома костију и то након фазе имобилизације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Реуматологија: запаљењска обољења у хроничном стадијуму, дегенеративна реуматска обољења, ванзглобни реуматизам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Гинекологија: хронична неспецифична гинеколошка обољења - аднекситиси, салнигитиси, параметиртиси и др; аменеореја, стерилитет (примарни и секундарни)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ОРЛ: синуситис, хронични отитис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Неурологија: неуралгије, неуритиси, спинална обољења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Остале медицинске дисцпилине: КТД се користи код свих хроничних обољења као што су стања после хируршких интервенција са инфилтратима, хроничних кожних обољења, хроничног бронхитиса и др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977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онтраиндикациј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4648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ољења која применом К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T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могу довести до погоршања, паце макер, хеморагична дијатеза, гравидитет, Т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B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малигна обољења, поремећај сензибилитета третираног дела тела, оклузивна артеријска обољења, тешка срчана и бубрежна обољења и д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онтраиндикациј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58920" y="2133720"/>
            <a:ext cx="7200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ољења која применом К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T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могу довести до погоршања, pace mаkеr, хеморагична дијатеза, гравидитет, Т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B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малигна обољења, поремећај сензибилитета третираног дела тела, оклузивна артеријска обољења, тешка срчана и бубрежна обољења и д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Наизмени</a:t>
            </a:r>
            <a:r>
              <a:rPr b="0" lang="sr-Latn-CS" sz="3200" spc="-1" strike="noStrike">
                <a:solidFill>
                  <a:srgbClr val="ffffcc"/>
                </a:solidFill>
                <a:latin typeface="Tahoma"/>
              </a:rPr>
              <a:t>ч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не струје ниске фреквенције (нискофреквентне струј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516040"/>
            <a:ext cx="82296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а) фарадска струј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б) транскутана електри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ч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на неурална стимулација (TEN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Фарадска струј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000" y="3645000"/>
            <a:ext cx="83516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Фреквенција фарадске струје је до 100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H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Фарадска струја је откривена од стране Фарадаy-а 1831. године, и то преко индукције у секундарном калему индукционог апарата, а као последица наизменичног отварања и затварања струјног кола у примарном калему. Овај облик струје можемо назвати и "класични облик" фарадске струје који се карактерише асиметријом позитивне и негативне фазе једног циклуса као и ирегуларности циклуса. Данас се добија регуларна фарадска струја "неофарадска струја" која има трајање 1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m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а паузу 20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m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 користи се у дијагностичке сврх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2556000" y="1352520"/>
            <a:ext cx="4033800" cy="21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Техника примен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076280"/>
            <a:ext cx="807552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Фарадска струја у терапијске сврхе се користи као стабилна или лабилна фарадизац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340000" y="1413000"/>
            <a:ext cx="4483080" cy="2514600"/>
          </a:xfrm>
          <a:prstGeom prst="rect">
            <a:avLst/>
          </a:prstGeom>
          <a:ln w="9360">
            <a:solidFill>
              <a:srgbClr val="be796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Транскутана електри</a:t>
            </a:r>
            <a:r>
              <a:rPr b="0" lang="sr-Latn-CS" sz="4400" spc="-1" strike="noStrike">
                <a:solidFill>
                  <a:srgbClr val="ffffcc"/>
                </a:solidFill>
                <a:latin typeface="Tahoma"/>
              </a:rPr>
              <a:t>ч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а стимулација (TENS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С у терапиј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бола користи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пулсе који су правоугли, бифазни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ли монoфазни. Фреквенција је од 2-200Hz. Деловање ТЕНС терапије заснива се на принципу дуализма, односно "гате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нтрол" терапије. Новија истраживањa указуј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на значaј ендогеног опијатног и неопијатног си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ема у постизању анaлгетског ефeкта. Опијатни рецeптори су ми, капa, делта, а супстанце које се ослоба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ђ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ју кроз ТЕНС су енкефалин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ендорфин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и динорфин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Ове ступстанце имају ефeкат сличан морфијум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и на томе се заснива блокирање болних сензација у одре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ђ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ној регијi (AA Cheng, Pomeranz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Транскутана електри</a:t>
            </a:r>
            <a:r>
              <a:rPr b="0" lang="sr-Latn-CS" sz="4400" spc="-1" strike="noStrike">
                <a:solidFill>
                  <a:srgbClr val="ffffcc"/>
                </a:solidFill>
                <a:latin typeface="Tahoma"/>
              </a:rPr>
              <a:t>ч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а стимулација (TENS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матра се да коришћењe велик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х интензите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 изаzива "стрес анaлгезију" (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Zhang i sa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1991). Како се анaлгетски ефeкти могу постић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и са интензитеtима мањим од 40 мА, али је значaјно применит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адекватну фреквенцију, то је у клин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кој пракси овај начин прихватљив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ј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трује средње фреквенциј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63280" y="2205000"/>
            <a:ext cx="692316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) струје ср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дње фр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квенциј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- интерф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ере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нт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е Nemec stru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б) Синусо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д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о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м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оду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л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ис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е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тр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ује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(Р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ус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а стимулација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Интеферентне Nemec-ove струје (I.F.S.)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060280"/>
            <a:ext cx="40338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парат за нискофреквентне струје се састоји из два струјна кол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рујно коло константне фреквенције 4000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H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рујно коло варијабилне фкреквенције 3900-4100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H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4572000" y="5013360"/>
            <a:ext cx="4033800" cy="1014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4572000" y="2063880"/>
            <a:ext cx="3313080" cy="2786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5T18:31:21Z</dcterms:created>
  <dc:creator>WIN98SE</dc:creator>
  <dc:description/>
  <dc:language>en-US</dc:language>
  <cp:lastModifiedBy>katarinaparezanovicilic@gmail.com</cp:lastModifiedBy>
  <dcterms:modified xsi:type="dcterms:W3CDTF">2020-09-26T17:00:29Z</dcterms:modified>
  <cp:revision>12</cp:revision>
  <dc:subject/>
  <dc:title>NAIZMENIČNE STRUJE</dc:title>
</cp:coreProperties>
</file>